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231-41DF-4EEE-9920-4C4CC2F5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E42-F283-4498-8DBA-F3BF44B9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C48-7F21-421E-96BB-EA62D4B2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4EB-91D6-4902-AD08-B849C121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C30-F30E-42EA-9249-A7C631F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340-DCF5-4163-84F4-6812C5BF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983-02C0-4551-A61C-AB94A9DE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E91-59C2-4323-ACFA-8ABB31AE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D00-CC77-4DCF-873B-B6078F8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428-675D-42E5-88BB-B405EA6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15E-059F-409F-9C9E-93B5269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5F3-02D6-44B5-86FF-3CDD0CC3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B60C-64AA-49A4-959B-FA82FA2C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05:05Z</dcterms:created>
  <dc:creator>abeason</dc:creator>
  <dc:description/>
  <dc:language>en-US</dc:language>
  <cp:lastModifiedBy>abeason</cp:lastModifiedBy>
  <dcterms:modified xsi:type="dcterms:W3CDTF">2008-11-18T19:05:08Z</dcterms:modified>
  <cp:revision>1</cp:revision>
  <dc:subject/>
  <dc:title>Slide 1</dc:title>
</cp:coreProperties>
</file>